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19.jpeg" ContentType="image/jpeg"/>
  <Override PartName="/ppt/media/image25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4.wmf" ContentType="image/x-wmf"/>
  <Override PartName="/ppt/media/image24.jpeg" ContentType="image/jpeg"/>
  <Override PartName="/ppt/media/image3.jpeg" ContentType="image/jpeg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C7A-D048-422D-B02B-DED7D3F0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718-BCF6-48A1-9807-AE9D55A1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2DA-BD0C-4FF4-8785-86A8B5E3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9ED-682A-463A-BB73-1D87CA1E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2EA9-0E13-46B9-9485-F07E4D3A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4207-CC9F-4B22-A8D1-106611C6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94FA-87FE-4B81-97BD-61F66E62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BAB0-C9EE-4C06-8489-504365B6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851C-B109-4BA1-9F4F-4053B862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CC90-F198-4459-938D-92930183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E3CD-27CE-45A1-844C-037AA80A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3D7-3188-4E00-AA54-3F2A8C70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C5AD-0F46-4667-A8B5-5D51F638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E882-C287-4D59-9DC8-E0CEA54B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45F7-8A15-49CE-8BAB-07C76427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76E9-9976-4671-AAC2-36827839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6EDB-FCA3-4CA1-A667-4C35785C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C6B-05E3-4080-A5D6-93AFF216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47C-4F34-4ECA-BB4D-27C7D320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F7B-F784-49A1-8BB3-EE56C75F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FE2-6598-4713-94C1-B8F24072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1D8-C849-4607-A62C-BC3F41CB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04D-F2E6-47B0-8E3F-42AA1821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7AC-8C06-4258-B860-B984A13B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DE3B-DB79-475E-A8D3-FAA37D306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76A9-AD4C-45D5-8939-3931C2B402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Белки. Проблема  синтеза белков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6" descr="пы"/>
          <p:cNvPicPr/>
          <p:nvPr/>
        </p:nvPicPr>
        <p:blipFill>
          <a:blip r:embed="rId1"/>
          <a:stretch/>
        </p:blipFill>
        <p:spPr>
          <a:xfrm>
            <a:off x="4284720" y="2781360"/>
            <a:ext cx="3959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оение бел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 первичной структурой белка понимают число и последовательность аминокислот, соединенных друг с другом пептидными связями в полипептидной цеп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{B074B8AD-67A9-4515-98C6-26CB297AE431}"/>
          <p:cNvPicPr/>
          <p:nvPr/>
        </p:nvPicPr>
        <p:blipFill>
          <a:blip r:embed="rId1"/>
          <a:stretch/>
        </p:blipFill>
        <p:spPr>
          <a:xfrm>
            <a:off x="4452840" y="1341360"/>
            <a:ext cx="4392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44416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всякого белка характерна помимо первичной еще и определенная вторичная структура. Обычно белковая молекула напоминает растянутую пружину. Это так называемая α-спираль, стабилизируемая множеством водородных связей, возникающих между находящимися поблизости друг от друга СО- 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групп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{BBE8BE40-FBA9-4281-A2D5-AEA24EA34F5E}"/>
          <p:cNvPicPr/>
          <p:nvPr/>
        </p:nvPicPr>
        <p:blipFill>
          <a:blip r:embed="rId1"/>
          <a:stretch/>
        </p:blipFill>
        <p:spPr>
          <a:xfrm>
            <a:off x="5076720" y="549360"/>
            <a:ext cx="3521160" cy="273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L23p10p00"/>
          <p:cNvPicPr/>
          <p:nvPr/>
        </p:nvPicPr>
        <p:blipFill>
          <a:blip r:embed="rId2"/>
          <a:stretch/>
        </p:blipFill>
        <p:spPr>
          <a:xfrm>
            <a:off x="4859280" y="350028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43192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большинства белков полипептидные цепи свернуты особым образом в компактную глобулу. Способ свертывания полипептидных цепей глобулярных белков называется третичной структурой. Третичная структура поддерживается связями трех типов – ионными, водородными и дисульфидными, а также гидрофобными взаимодейств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{3C828F5A-4FA2-4ED6-A698-B3B0E148AB48}"/>
          <p:cNvPicPr/>
          <p:nvPr/>
        </p:nvPicPr>
        <p:blipFill>
          <a:blip r:embed="rId1"/>
          <a:stretch/>
        </p:blipFill>
        <p:spPr>
          <a:xfrm>
            <a:off x="4788000" y="620640"/>
            <a:ext cx="3927240" cy="2737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L23p02p02"/>
          <p:cNvPicPr/>
          <p:nvPr/>
        </p:nvPicPr>
        <p:blipFill>
          <a:blip r:embed="rId2"/>
          <a:stretch/>
        </p:blipFill>
        <p:spPr>
          <a:xfrm>
            <a:off x="4859280" y="357336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4608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ногие белки с особо сложным строением состоят из нескольких полипептидных цепей, удерживаемых в молекуле вместе за счет гидрофобных взаимодействий, а также при помощи водородных и ионных связей. Способ совместной упаковки и укладки этих полипептидных цепей называют четвертичной структурой бел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0" descr="{9D733D42-9CE6-4D17-870D-77F3193FD8AD}"/>
          <p:cNvPicPr/>
          <p:nvPr/>
        </p:nvPicPr>
        <p:blipFill>
          <a:blip r:embed="rId1"/>
          <a:stretch/>
        </p:blipFill>
        <p:spPr>
          <a:xfrm>
            <a:off x="5003640" y="333360"/>
            <a:ext cx="3527640" cy="3395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L23p10p01"/>
          <p:cNvPicPr/>
          <p:nvPr/>
        </p:nvPicPr>
        <p:blipFill>
          <a:blip r:embed="rId2"/>
          <a:stretch/>
        </p:blipFill>
        <p:spPr>
          <a:xfrm>
            <a:off x="5003640" y="3789360"/>
            <a:ext cx="37706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иосинтез бел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10" descr="001"/>
          <p:cNvPicPr/>
          <p:nvPr/>
        </p:nvPicPr>
        <p:blipFill>
          <a:blip r:embed="rId1"/>
          <a:stretch/>
        </p:blipFill>
        <p:spPr>
          <a:xfrm>
            <a:off x="539640" y="1773360"/>
            <a:ext cx="3024360" cy="2054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1"/>
          <p:cNvPicPr/>
          <p:nvPr/>
        </p:nvPicPr>
        <p:blipFill>
          <a:blip r:embed="rId2"/>
          <a:stretch/>
        </p:blipFill>
        <p:spPr>
          <a:xfrm>
            <a:off x="5033880" y="2000160"/>
            <a:ext cx="369576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2"/>
          <p:cNvPicPr/>
          <p:nvPr/>
        </p:nvPicPr>
        <p:blipFill>
          <a:blip r:embed="rId3"/>
          <a:stretch/>
        </p:blipFill>
        <p:spPr>
          <a:xfrm>
            <a:off x="539640" y="4076640"/>
            <a:ext cx="3597480" cy="224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03"/>
          <p:cNvPicPr/>
          <p:nvPr/>
        </p:nvPicPr>
        <p:blipFill>
          <a:blip r:embed="rId4"/>
          <a:stretch/>
        </p:blipFill>
        <p:spPr>
          <a:xfrm>
            <a:off x="5003640" y="4076640"/>
            <a:ext cx="347364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3" descr="1"/>
          <p:cNvPicPr/>
          <p:nvPr/>
        </p:nvPicPr>
        <p:blipFill>
          <a:blip r:embed="rId1"/>
          <a:stretch/>
        </p:blipFill>
        <p:spPr>
          <a:xfrm>
            <a:off x="468360" y="792000"/>
            <a:ext cx="4032360" cy="284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1"/>
          <p:cNvPicPr/>
          <p:nvPr/>
        </p:nvPicPr>
        <p:blipFill>
          <a:blip r:embed="rId2"/>
          <a:stretch/>
        </p:blipFill>
        <p:spPr>
          <a:xfrm>
            <a:off x="5003640" y="765000"/>
            <a:ext cx="3602160" cy="2714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1"/>
          <p:cNvPicPr/>
          <p:nvPr/>
        </p:nvPicPr>
        <p:blipFill>
          <a:blip r:embed="rId3"/>
          <a:stretch/>
        </p:blipFill>
        <p:spPr>
          <a:xfrm>
            <a:off x="900000" y="3743280"/>
            <a:ext cx="3367080" cy="292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1"/>
          <p:cNvPicPr/>
          <p:nvPr/>
        </p:nvPicPr>
        <p:blipFill>
          <a:blip r:embed="rId4"/>
          <a:stretch/>
        </p:blipFill>
        <p:spPr>
          <a:xfrm>
            <a:off x="5076720" y="3716280"/>
            <a:ext cx="3425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08020302"/>
          <p:cNvPicPr/>
          <p:nvPr/>
        </p:nvPicPr>
        <p:blipFill>
          <a:blip r:embed="rId1"/>
          <a:stretch/>
        </p:blipFill>
        <p:spPr>
          <a:xfrm>
            <a:off x="250920" y="404640"/>
            <a:ext cx="87138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НК матри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и РНК матри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Стрелка вправо 3"/>
          <p:cNvSpPr/>
          <p:nvPr/>
        </p:nvSpPr>
        <p:spPr>
          <a:xfrm>
            <a:off x="4071960" y="1928880"/>
            <a:ext cx="977760" cy="64296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трелка вниз 4"/>
          <p:cNvSpPr/>
          <p:nvPr/>
        </p:nvSpPr>
        <p:spPr>
          <a:xfrm>
            <a:off x="5643720" y="2714760"/>
            <a:ext cx="1214280" cy="785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начение синтеза белков для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i"/>
          <p:cNvPicPr/>
          <p:nvPr/>
        </p:nvPicPr>
        <p:blipFill>
          <a:blip r:embed="rId1"/>
          <a:stretch/>
        </p:blipFill>
        <p:spPr>
          <a:xfrm>
            <a:off x="571680" y="1521000"/>
            <a:ext cx="812160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лки - обязательная составная часть всех живых клеток, играют исключительно важную роль в живой природе, являются главным, наиболее ценным и незаменимым компонентом питания. Это связанно с той огромной ролью, которую они играют в процессах развития и жизни человека. Белки являются основой структурных элементов и тканей, поддерживают обмен веществ и энергии, участвуют в процессах роста и размножения, обеспечивают механизмы движений, развитие иммунных реакций, необходимы для функционирования всех органов и систем организ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лок – это высокомолекулярное органическое соединение, представляющее собой биополимер, состоящий из мономеров,  которыми являются аминокислоты соединенные пептидной связ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L23p02p01"/>
          <p:cNvPicPr/>
          <p:nvPr/>
        </p:nvPicPr>
        <p:blipFill>
          <a:blip r:embed="rId1"/>
          <a:stretch/>
        </p:blipFill>
        <p:spPr>
          <a:xfrm>
            <a:off x="3132000" y="2492280"/>
            <a:ext cx="55087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"Жизнь - это форма существования белка"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Picture 4" descr="Презентация «Белки», слайд № 1"/>
          <p:cNvPicPr/>
          <p:nvPr/>
        </p:nvPicPr>
        <p:blipFill>
          <a:blip r:embed="rId1"/>
          <a:stretch/>
        </p:blipFill>
        <p:spPr>
          <a:xfrm>
            <a:off x="1619280" y="1916280"/>
            <a:ext cx="611964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История открытия белк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530000"/>
            <a:ext cx="8007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ещества белковой природы известны с древних времен. Начало их изучения положено в середине 18 в. итальянцем Я. Беккари, но только через 100 лет ученым удалось систематизировать свойства белков  и сделать вывод , что белки – это главный компонент живых организмов. Затем из белковых гидролизатов были получены продукты расщепления и возникли гипотезы о строении белков из аминокисл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L23p10p01"/>
          <p:cNvPicPr/>
          <p:nvPr/>
        </p:nvPicPr>
        <p:blipFill>
          <a:blip r:embed="rId1"/>
          <a:stretch/>
        </p:blipFill>
        <p:spPr>
          <a:xfrm>
            <a:off x="5003640" y="3789360"/>
            <a:ext cx="3770640" cy="2827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мецкий химик Эмиль Фишер первым выяснил, как построены молекулы белков и заложил основы их химического синтеза. В начале 20 века Фишер доказал пептидную теорию строения белков, выдвинутую русским химиком Данилевским, синтезировав полипептиды состоящие из 3 – 18 аминокислотных остат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редерик Грант Бантинг – канадский ученый, в 1923 году  стал лауреатом Нобелевской премии за открытие и изучение инсул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87880" cy="62056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1"/>
          <p:cNvSpPr/>
          <p:nvPr/>
        </p:nvSpPr>
        <p:spPr>
          <a:xfrm>
            <a:off x="539640" y="64911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(14.11.1891–22.2.19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1992 году был получен гормон инсулин, позв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яющий контролировать сахарный диаб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356000" y="3530520"/>
            <a:ext cx="43927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акс Фердинанд Перутц – австрийский ученый,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1937 года изучал структуру гемоглоб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210200" cy="57625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759240" y="6308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(1914-2002), Авс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{BBE8BE40-FBA9-4281-A2D5-AEA24EA34F5E}"/>
          <p:cNvPicPr/>
          <p:nvPr/>
        </p:nvPicPr>
        <p:blipFill>
          <a:blip r:embed="rId1"/>
          <a:stretch/>
        </p:blipFill>
        <p:spPr>
          <a:xfrm>
            <a:off x="4067280" y="3284640"/>
            <a:ext cx="4716360" cy="3295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505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кс Фердинанд Перутц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сшифровал пространственное строение молеку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моглобина и построил ее точную мод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Член Национальной академии наук США (с 1970 года), Австрийской АН в Вене (с 1963 года), Американской академии искусств и наук (с 1963 года). Лауреат Нобелевской премии по химии за 1962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7720" y="4143240"/>
            <a:ext cx="294804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рансуа Жакоб (р.1920) – французский микробио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фото"/>
          <p:cNvPicPr/>
          <p:nvPr/>
        </p:nvPicPr>
        <p:blipFill>
          <a:blip r:embed="rId1"/>
          <a:stretch/>
        </p:blipFill>
        <p:spPr>
          <a:xfrm>
            <a:off x="285840" y="357120"/>
            <a:ext cx="3571920" cy="3648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фото 2"/>
          <p:cNvPicPr/>
          <p:nvPr/>
        </p:nvPicPr>
        <p:blipFill>
          <a:blip r:embed="rId2"/>
          <a:stretch/>
        </p:blipFill>
        <p:spPr>
          <a:xfrm>
            <a:off x="5214960" y="304920"/>
            <a:ext cx="3081240" cy="35877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 flipV="1" rot="10800000">
            <a:off x="5285880" y="4032000"/>
            <a:ext cx="307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Жак Люсьен Моно (1910-1976) – французский биохимик  и микробио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8:36:41Z</dcterms:created>
  <dc:creator>Customer</dc:creator>
  <dc:description/>
  <dc:language>en-US</dc:language>
  <cp:lastModifiedBy>Student</cp:lastModifiedBy>
  <dcterms:modified xsi:type="dcterms:W3CDTF">2012-03-31T06:11:14Z</dcterms:modified>
  <cp:revision>6</cp:revision>
  <dc:subject/>
  <dc:title>Тема: Белки. Проблема  синтеза белков</dc:title>
</cp:coreProperties>
</file>